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312C-6FCF-4D2C-9D92-96B6BB38F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28F1-781F-4B56-A643-19D5BCC4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A8DE-4BCF-4C7E-822A-65DE766A0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AA92-2E7B-4FAE-8EA3-4F0CF6EF6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46B0-AF0D-4A2B-B947-6F88A713D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5343-9AB9-45A3-B385-BA703A64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C7BE-0BB4-4BA7-9F95-9575E5E3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69CE-DF5A-46DB-9A8E-37EF5A09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2EF8-A8A2-4293-B271-5926579C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9407-537E-43AD-9B9D-83C1F077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AD4F-6BD6-477D-9F57-B2689092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C2C4-6332-459F-A38E-9EA6BE81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0AF9-E611-4FCC-84E8-0C3E696D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50F2-5F7B-4722-87D7-41CB0DBC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D524-4AB6-4E4C-8422-CFF7C904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C838-9271-4F62-BD2D-6541AA69A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CFF5-B67A-40C9-A3B7-35DD297E5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C0CB-AB0E-4A59-B3B1-45F6E307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AF97-E383-4424-B3D4-12E84360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6179-F543-4A53-910F-714D914F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1547-7038-48BA-AEE3-42DCBDBE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EF37-F3F4-4841-B74B-9D886F1C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0ACE-E45B-42D7-9554-945CE34A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DA38-B84F-4947-8C6A-53CC3C15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  <a:p>
            <a:pPr lvl="1" marL="653760" indent="-251280"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  <a:p>
            <a:pPr lvl="2" marL="1005840" indent="-2008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  <a:p>
            <a:pPr lvl="3" marL="1407960" indent="-200880"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  <a:p>
            <a:pPr lvl="4" marL="1810440" indent="-2008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  <a:p>
            <a:pPr lvl="5" marL="1810440" indent="-200880"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  <a:p>
            <a:pPr lvl="6" marL="1810440" indent="-200880"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BE5B-4AB8-47C3-A4FF-A204889EAE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5BCB-E6DE-4D1A-A6D1-ED8564A743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2" marL="896040" algn="ctr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343880" algn="ctr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4" marL="179208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5" marL="17920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6" marL="17920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How Long, O Lord?”</a:t>
            </a:r>
            <a:endParaRPr b="0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Quarter 13, Lesson 12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Hebrews 11:1 – 12:17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Pages 69-72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 spd="med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The Challenges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Try to live in peace with everyone – v.14a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Seek to live a clean and holy life –v.14b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Don’t let bitterness take root –v.15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Don’t sell your birthright for fornication or profane lifestyle, like Esau did -16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You will live in regret like him if you sell out now – v.17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From Last Lesson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The Challenge – 10:19-39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Approach the throne of God -19-22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Advance the people of God – 23-25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Avoid the judgment of God – 26-31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Acknowledge the faithfulness of God – 32-39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Today’s Lesson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You Can Do More Than You Think By Faith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eople have done great things under lesser systems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Faith is the victory for you too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The Explanation of Faith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Its Nature – Heb.11:1-2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It is the confident assurance that what we hope for is going to happen – 11:1a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It is the evidence of things we cannot see – 1b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Its Necessity – 11:3,6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The Examples of Faith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16 Named People of Faith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id things by faith under lesser opportunity than yours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What They Did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Gave acceptable offering to God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Built a huge barge (ark)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Believed God could raise the dead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fied the king of Egypt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Forsook pleasures of sin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ook great risks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Summary – 11:33-35a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The Examples of Faith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16 Named People of Faith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id things by faith under lesser opportunity than yours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What They Did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What they endured – 35b-38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Terrible torture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Ridicule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Cruel Flogging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Imprisonment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Stoning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Being sawn in two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Death by the sword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Extreme poverty</a:t>
            </a:r>
            <a:endParaRPr b="1" lang="en-US" sz="1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5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The Examples of Faith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16 Named People of Faith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id things by faith under lesser opportunity than yours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What They Did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What they endured – 35b-38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Why they endured – v.10,13-15,16b,26,35c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hey saw by faith the invisible city of God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hey valued it more than anything in the world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hey looked forward to their own resurrection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See Them As Your Support Team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The Contest Before Us – 12:1-4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The Race – 12:1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The Role Model – 12:2-3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The Reassurance – 12:4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Your Father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The Chastening of the Father’s Love – 12:5-13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The relationship – 12:7b-10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The reminder -12:5a w/Prov.3:11-12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The reaction –should be positive -5,7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The reasons – v.6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The rewards – 12:11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The renewal – 12:12-13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5T01:55:21Z</dcterms:created>
  <dc:creator>terrybenton</dc:creator>
  <dc:description/>
  <dc:language>en-US</dc:language>
  <cp:lastModifiedBy>terrybenton</cp:lastModifiedBy>
  <dcterms:modified xsi:type="dcterms:W3CDTF">2007-08-25T02:53:27Z</dcterms:modified>
  <cp:revision>3</cp:revision>
  <dc:subject/>
  <dc:title>“How Long, O Lord?”</dc:title>
</cp:coreProperties>
</file>